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3ED-3EEF-4979-939D-4C43D8D16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6B1-3BBB-4079-BBA6-9CAEE7C6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4075-3476-4C3C-885C-F7B4C811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C4C-D422-41A8-BF1C-614B9B71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451A-C15E-40A5-AC30-A1FFF3BA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11A1-7B34-4C51-8054-5856B0A3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1EA5-F1A7-44AC-BF12-A272305D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056E-02B5-49A8-A526-41A6D86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3CE1-0D7D-40DD-89CE-E1F5B10A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453D-ED75-46FE-BA8E-E0248602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D205-89D6-4C5B-A894-52093B6B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278A-B8A4-4D40-A6F6-25444880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8ED5-E3E3-4B4B-B8CF-C7D9B4B7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3B3E-714A-42BF-9657-F3FF0D8E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8777-24E7-4B0C-BBB1-23E29D15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AE8C-E739-4DC3-99FC-3567F2D94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73F2-5A54-43F2-B38B-58D812FD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9B6-86C5-428A-9D17-419074ED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ABE-3F8C-45DE-9006-236B608A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322-AA6B-4FEB-9225-36E89FD5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549-D934-447E-B11C-F19E0226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791-0F52-47CA-87BE-E247A08D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5938-2E2D-488F-8859-A5AE9D04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824-61CB-4700-90FB-8B4D3EB5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5423-A815-491C-A583-7734ADF28D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727A-E137-4796-8F34-3ED385043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du.ru/db-mon/mo/Data/d_09/m373.html" TargetMode="External"/><Relationship Id="rId2" Type="http://schemas.openxmlformats.org/officeDocument/2006/relationships/hyperlink" Target="http://www.edu.ru/db-mon/mo/Data/d_09/m373.html" TargetMode="External"/><Relationship Id="rId3" Type="http://schemas.openxmlformats.org/officeDocument/2006/relationships/hyperlink" Target="http://www.edu.ru/db-mon/mo/Data/d_09/m373.html" TargetMode="External"/><Relationship Id="rId4" Type="http://schemas.openxmlformats.org/officeDocument/2006/relationships/hyperlink" Target="http://www.edu.ru/db-mon/mo/Data/d_09/m373.html" TargetMode="External"/><Relationship Id="rId5" Type="http://schemas.openxmlformats.org/officeDocument/2006/relationships/hyperlink" Target="http://www.edu.ru/db-mon/mo/Data/d_09/m373.html" TargetMode="External"/><Relationship Id="rId6" Type="http://schemas.openxmlformats.org/officeDocument/2006/relationships/hyperlink" Target="http://www.edu.ru/db-mon/mo/Data/d_09/m373.html" TargetMode="External"/><Relationship Id="rId7" Type="http://schemas.openxmlformats.org/officeDocument/2006/relationships/hyperlink" Target="http://www.edu.ru/db-mon/mo/Data/d_09/m373.html" TargetMode="External"/><Relationship Id="rId8" Type="http://schemas.openxmlformats.org/officeDocument/2006/relationships/hyperlink" Target="http://www.edu.ru/db-mon/mo/Data/d_09/m373.html" TargetMode="External"/><Relationship Id="rId9" Type="http://schemas.openxmlformats.org/officeDocument/2006/relationships/hyperlink" Target="http://www.edu.ru/db-mon/mo/Data/d_09/m373.html" TargetMode="External"/><Relationship Id="rId10" Type="http://schemas.openxmlformats.org/officeDocument/2006/relationships/hyperlink" Target="http://www.edu.ru/db-mon/mo/Data/d_09/m373.html" TargetMode="External"/><Relationship Id="rId11" Type="http://schemas.openxmlformats.org/officeDocument/2006/relationships/hyperlink" Target="http://standart.edu.ru/catalog.aspx?CatalogId=223" TargetMode="External"/><Relationship Id="rId12" Type="http://schemas.openxmlformats.org/officeDocument/2006/relationships/hyperlink" Target="http://standart.edu.ru/catalog.aspx?CatalogId=223" TargetMode="External"/><Relationship Id="rId13" Type="http://schemas.openxmlformats.org/officeDocument/2006/relationships/hyperlink" Target="http://standart.edu.ru/catalog.aspx?CatalogId=223" TargetMode="External"/><Relationship Id="rId14" Type="http://schemas.openxmlformats.org/officeDocument/2006/relationships/hyperlink" Target="http://standart.edu.ru/catalog.aspx?CatalogId=223" TargetMode="External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Стандарты нового поколе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«Современный урок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иректор МБОУ СОШ № 45 г.о. Самар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аева С.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bcbcb"/>
                </a:solidFill>
                <a:latin typeface="Times New Roman"/>
              </a:rPr>
              <a:t>Это должен знать каждый педагог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то является неотъемлемой частью ядра Стандарта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bcbcb"/>
                </a:solidFill>
                <a:latin typeface="Times New Roman"/>
              </a:rPr>
              <a:t>Это должен знать каждый педагог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Что является важным элементом формирования универсальных учебных действий обучающихся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bcbcb"/>
                </a:solidFill>
                <a:latin typeface="Times New Roman"/>
              </a:rPr>
              <a:t>Это должен знать каждый педагог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Что изучается с использованием ИКТ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bcbcb"/>
                </a:solidFill>
                <a:latin typeface="Times New Roman"/>
              </a:rPr>
              <a:t>Это должен знать каждый педагог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Что такое информационно-образовательная среда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bcbcb"/>
                </a:solidFill>
                <a:latin typeface="Times New Roman"/>
              </a:rPr>
              <a:t>Это должен знать каждый педагог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Какой должна быть материальная образовательная среда начальной школы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bcbcb"/>
                </a:solidFill>
                <a:latin typeface="Times New Roman"/>
              </a:rPr>
              <a:t>Это должен знать каждый педагог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В чем же новизна стандарта второго поколения и современного урока?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bcbcb"/>
                </a:solidFill>
                <a:latin typeface="Times New Roman"/>
              </a:rPr>
              <a:t>Это должен знать каждый педагог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одуктивные задания – главное средство достижения результата образования!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адиционные задания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зови прогрессивные силы, участвовавшие в Гражданской войне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числите отличия растений от животны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еречислите имена существительные, которые относятся к 1-му, 2-му и 3-му склонению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ределите площадь прямоугольника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ния в учебниках «Школа 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00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»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ь, что ты оказался на месте своего предка – участника Гражданской войны на стороне белых или красных. За какие действия своих соратников ты бы испытывал угрызения совести? Свое мнение объясн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ягушонок прыгал и кричал: «Я зеленый – значит, я растение!» Что ему ответил умный утенок Кряк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нужно сделать, чтобы определить, к какому склонению относится имя существительное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 план комнаты и размеры ковров. Определите, какой из предложенных ковров полностью закроет пол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title"/>
          </p:nvPr>
        </p:nvSpPr>
        <p:spPr>
          <a:xfrm>
            <a:off x="684360" y="-1263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Главное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итель, его отношение к учебному процессу, его творчество и профессионализм, его желание раскрыть способности каждого ребенка – вот это всё и есть главный ресурс, без которого невозможно воплощение новых стандартов школьного образования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bcbcb"/>
                </a:solidFill>
                <a:latin typeface="Times New Roman"/>
              </a:rPr>
              <a:t>Современный урок – это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"Урок есть открытие истины, поиск истины и осмысление истины"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Приоритеты современного образования: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ить учиться ;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ение для труда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ение – для бытия;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чение для совместной жизни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Приоритеты современного образования: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лноценное формирование и развитие способностей ученика самостоятельно очерчивать учебную проблему, формулировать алгоритм ее решения, контролировать процесс и оценивать полученный результат – научить учиться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16572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Задача каждого педагога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ть и развивать мобильную, самореализующуюся личность, способную к обучению на протяжении всей жизни;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ировать у школьников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ение ориентироваться в море информации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ность принимать правильные решения на основании данных из различных источников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bcbcb"/>
                </a:solidFill>
                <a:latin typeface="Times New Roman"/>
              </a:rPr>
              <a:t>Вопросы для самообразования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Что такое Федеральные государственные образовательные стандарты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 официальным приказом о введение в действие ФГОС НОО и текстом Стандарта можно познакомиться на сайте Минобрнауки России: 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://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www.edu.ru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/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db-mon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/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mo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/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9"/>
              </a:rPr>
              <a:t>Data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10"/>
              </a:rPr>
              <a:t>/d_09/m373.html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атериалы по ФГОС НОО размещены на сайте 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11"/>
              </a:rPr>
              <a:t>http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12"/>
              </a:rPr>
              <a:t>://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13"/>
              </a:rPr>
              <a:t>standart.edu.ru</a:t>
            </a: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  <a:hlinkClick r:id="rId14"/>
              </a:rPr>
              <a:t>/catalog.aspx?CatalogId=223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6064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4653000"/>
            <a:ext cx="77724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ФГОС это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вокупность требований, обязательных при реализации основных образовательных программ начального общего образования (ООП НОО) образовательными учреждениями, имеющими государственную аккредитацию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bcbcb"/>
                </a:solidFill>
                <a:latin typeface="Times New Roman"/>
              </a:rPr>
              <a:t>Это должен знать каждый педагог: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акие требования выдвигает ФГОС НОО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Три «Т»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ебования к результатам освоения основной образовательной программы начального общего образования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ебования к структуре основной образовательной программы начального общего образования,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ебования к условиям реализации основной образовательной программы начального общего образования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616572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5589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bcbcb"/>
                </a:solidFill>
                <a:latin typeface="Times New Roman"/>
              </a:rPr>
              <a:t>Что является отличительной особенностью ФГОС НОО?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1981080"/>
            <a:ext cx="784692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ятельностный характер, ставящий главной целью развитие личности учащегося. Система образования отказывается от традиционного представления результатов обучения в виде знаний, умений и навыков, формулировки стандарта указывают реальные виды деятельности, которыми учащийся должен овладеть к концу начального обучения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ебования к результатам обучения сформулированы в виде личностных, метапредметных и предметных результатов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084640"/>
            <a:ext cx="3200400" cy="30492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8:41:52Z</dcterms:created>
  <dc:creator>1</dc:creator>
  <dc:description/>
  <dc:language>en-US</dc:language>
  <cp:lastModifiedBy>1</cp:lastModifiedBy>
  <dcterms:modified xsi:type="dcterms:W3CDTF">2012-01-09T19:51:17Z</dcterms:modified>
  <cp:revision>3</cp:revision>
  <dc:subject/>
  <dc:title>Стандарты нового покол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